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86C-3FDD-4369-98BE-41E5D09D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5C9-FC5F-4C29-885B-C64EC205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077-35AF-4D7A-841F-C1E6CAFF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340-5E9F-4750-BA20-C141D9AD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5EB-1190-4942-BC58-C044729B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21C-388E-462A-A1C6-CCCC1A5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64A-C7F9-4868-B19A-30330B4D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45B-27FA-4E61-8B4C-B58AD36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FBC-E232-4C9A-982D-BE52A45E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CD7-99ED-4D62-A171-76641863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41D-E896-49B6-A8FA-714E362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6E1-1BE8-49DF-80EC-AE873A0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9E4C-6946-4C30-AEC9-0E2693B95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empus Sans ITC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Tempus Sans ITC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Tempus Sans ITC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Higher prices make it harder to buy necessities, like food and clothes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457200" y="406080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empus Sans ITC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Tempus Sans ITC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empus Sans ITC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Tempus Sans ITC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empus Sans ITC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Tempus Sans ITC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9" dur="123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0" dur="123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2" dur="123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50" dur="123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51" dur="123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5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53" dur="123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61" dur="123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62" dur="123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64" dur="123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6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2" dur="123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73" dur="123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7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75" dur="123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7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83" dur="123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4" dur="123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86" dur="123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8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empus Sans ITC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6019920" y="40384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066320" y="41911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5210280"/>
            <a:ext cx="1752480" cy="164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5486400"/>
            <a:ext cx="1533240" cy="950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mpus Sans ITC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occer ball.jpg"/>
          <p:cNvPicPr/>
          <p:nvPr/>
        </p:nvPicPr>
        <p:blipFill>
          <a:blip r:embed="rId3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67240" y="3911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empus Sans IT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75% of people live in c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20T15:05:39Z</dcterms:modified>
  <cp:revision>9</cp:revision>
  <dc:subject/>
  <dc:title>Present Day Russia</dc:title>
</cp:coreProperties>
</file>